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F49B-35E0-4864-8335-71447BA5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864216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400520"/>
            <a:ext cx="864216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A677-F73C-4024-B6BB-BAD4971A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40052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40052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29EB-0216-4855-B733-C41D7274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28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28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40052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40052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40052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79F6-9E67-4645-905A-CE182D909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280"/>
            <a:ext cx="8642160" cy="84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25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15FD-7C49-4B20-A004-7E5BF1A4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8642160" cy="844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23E8-8646-4BAE-9E8C-3C81DF23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844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844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1008-BDCC-4DF7-83AF-08708901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CE18-AC65-4F6E-9AA1-8573EBA3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97D2-76A3-4C17-92E1-56B0BDA2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844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40052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0CB5-C5D6-496B-9526-66737C9D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844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40052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8F18-3611-45ED-8935-E7EB2076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400520"/>
            <a:ext cx="864216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F71E-17AF-48E9-9F8F-4BE1C157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280"/>
            <a:ext cx="8642160" cy="844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 algn="r" rtl="1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1" marL="1038240" indent="-398520" algn="r" rtl="1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2" marL="1598760" indent="-319320" algn="r" rtl="1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3" marL="2238480" indent="-319320" algn="r" rtl="1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4" marL="2878200" indent="-319320" algn="r" rtl="1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5" marL="2878200" indent="-319320" algn="r" rtl="1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6" marL="2878200" indent="-319320" algn="r" rtl="1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80320" y="11864880"/>
            <a:ext cx="2241360" cy="682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  <a:defRPr b="0" lang="fa-IR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fa-IR" sz="1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864880"/>
            <a:ext cx="3042000" cy="682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9520" y="11864880"/>
            <a:ext cx="2241360" cy="682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  <a:defRPr b="0" lang="fa-IR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fld id="{257838D2-5790-442F-88B9-A1DF28DD867A}" type="slidenum">
              <a:rPr b="0" lang="fa-IR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9520" y="192240"/>
            <a:ext cx="8991720" cy="1382400"/>
          </a:xfrm>
          <a:prstGeom prst="rect">
            <a:avLst/>
          </a:prstGeom>
          <a:noFill/>
          <a:ln w="76320">
            <a:solidFill>
              <a:srgbClr val="0070c0"/>
            </a:solidFill>
            <a:miter/>
          </a:ln>
        </p:spPr>
        <p:txBody>
          <a:bodyPr lIns="128160" rIns="128160" tIns="64080" bIns="6408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B Titr"/>
              </a:rPr>
              <a:t>همایش کشوری جایگاه و اقتضائات در تربیت معلم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Calibri"/>
                <a:ea typeface="B Titr"/>
              </a:rPr>
              <a:t>12</a:t>
            </a:r>
            <a:r>
              <a:rPr b="0" lang="fa-IR" sz="1800" spc="-1" strike="noStrike">
                <a:solidFill>
                  <a:srgbClr val="000000"/>
                </a:solidFill>
                <a:latin typeface="Calibri"/>
                <a:ea typeface="B Titr"/>
              </a:rPr>
              <a:t> اسفند ماه </a:t>
            </a:r>
            <a:r>
              <a:rPr b="0" lang="fa-IR" sz="1800" spc="-1" strike="noStrike">
                <a:solidFill>
                  <a:srgbClr val="000000"/>
                </a:solidFill>
                <a:latin typeface="Calibri"/>
                <a:ea typeface="B Titr"/>
              </a:rPr>
              <a:t>139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43160" y="2828520"/>
            <a:ext cx="4319640" cy="37148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txBody>
          <a:bodyPr lIns="128160" rIns="128160" tIns="64080" bIns="64080" anchor="t">
            <a:noAutofit/>
          </a:bodyPr>
          <a:p>
            <a:pPr indent="0" algn="r" rtl="1">
              <a:spcBef>
                <a:spcPts val="57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a-IR" sz="2300" spc="-1" strike="noStrike">
                <a:solidFill>
                  <a:srgbClr val="898989"/>
                </a:solidFill>
                <a:latin typeface="Calibri"/>
                <a:cs typeface="B Titr"/>
              </a:rPr>
              <a:t>چکیده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299880" y="1685880"/>
            <a:ext cx="8963280" cy="10717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ct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a-IR" sz="2300" spc="-1" strike="noStrike">
                <a:solidFill>
                  <a:srgbClr val="898989"/>
                </a:solidFill>
                <a:latin typeface="Calibri"/>
                <a:cs typeface="B Titr"/>
              </a:rPr>
              <a:t>عنوان مقال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  <a:cs typeface="B Titr"/>
              </a:rPr>
              <a:t>اسامی نگارنده(گان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  <a:cs typeface="B Titr"/>
              </a:rPr>
              <a:t>آدرس نگارنده(گان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ubtitle 2"/>
          <p:cNvSpPr/>
          <p:nvPr/>
        </p:nvSpPr>
        <p:spPr>
          <a:xfrm>
            <a:off x="4943520" y="6597720"/>
            <a:ext cx="4319640" cy="34462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a-IR" sz="2300" spc="-1" strike="noStrike">
                <a:solidFill>
                  <a:srgbClr val="898989"/>
                </a:solidFill>
                <a:latin typeface="Calibri"/>
                <a:cs typeface="B Titr"/>
              </a:rPr>
              <a:t>مقدمه و اهداف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4943520" y="10115640"/>
            <a:ext cx="4319640" cy="229716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a-IR" sz="2300" spc="-1" strike="noStrike">
                <a:solidFill>
                  <a:srgbClr val="898989"/>
                </a:solidFill>
                <a:latin typeface="Calibri"/>
                <a:cs typeface="B Titr"/>
              </a:rPr>
              <a:t>روش‌ها و ابزار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299880" y="2828880"/>
            <a:ext cx="4572000" cy="72151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a-IR" sz="2300" spc="-1" strike="noStrike">
                <a:solidFill>
                  <a:srgbClr val="898989"/>
                </a:solidFill>
                <a:latin typeface="Calibri"/>
                <a:cs typeface="B Titr"/>
              </a:rPr>
              <a:t>نتایج و بحث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ubtitle 2"/>
          <p:cNvSpPr/>
          <p:nvPr/>
        </p:nvSpPr>
        <p:spPr>
          <a:xfrm>
            <a:off x="299880" y="10115640"/>
            <a:ext cx="4572000" cy="228600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a-IR" sz="2300" spc="-1" strike="noStrike">
                <a:solidFill>
                  <a:srgbClr val="898989"/>
                </a:solidFill>
                <a:latin typeface="Calibri"/>
                <a:cs typeface="B Titr"/>
              </a:rPr>
              <a:t>منابع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C:\Users\news\Desktop\logo copy1.PNG"/>
          <p:cNvPicPr/>
          <p:nvPr/>
        </p:nvPicPr>
        <p:blipFill>
          <a:blip r:embed="rId1"/>
          <a:stretch/>
        </p:blipFill>
        <p:spPr>
          <a:xfrm>
            <a:off x="407880" y="198360"/>
            <a:ext cx="129708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04:01:46Z</dcterms:created>
  <dc:creator>شهرداری شیراز-گروه پژوهش</dc:creator>
  <dc:description/>
  <dc:language>en-US</dc:language>
  <cp:lastModifiedBy>news</cp:lastModifiedBy>
  <dcterms:modified xsi:type="dcterms:W3CDTF">2015-02-18T21:05:05Z</dcterms:modified>
  <cp:revision>53</cp:revision>
  <dc:subject/>
  <dc:title>فورمت ارائه پوستر جهت همایش ملی</dc:title>
</cp:coreProperties>
</file>